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26C2-42CC-4D95-9C83-ADFDB74C5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4D0B-2275-4647-8B73-3F95ABF7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CF53-DCB2-46D9-A8F9-F69FADF45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91AA-8192-4DA0-ACE0-3422D801B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A541-FEDC-41E0-AC74-8CA35978A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6CDC-036A-471E-940E-8A30CFEA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1179-51C3-48D1-A563-414AD82D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B939-825D-4CB1-B459-6636DB10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32D5-FA59-47C4-A0F3-F1989230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B095-BB33-48D7-BC85-8A2180EF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6FF8-7E58-49A6-9F9A-92936EBF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9092-52C7-40F0-AFC2-2E71A133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13F2-C5CE-44F2-A960-22F7F555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71B1-802D-4CE6-B4A6-F2C8737C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A818-B5DD-424F-B6F1-08D28479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DB98-34DC-4D9E-8B28-BAEFAD2DC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30DA-C849-46E2-8EFD-5C64EF2A0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073B-AFD5-4D77-A71A-75910DE6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DC68-7B68-45AC-991F-299D70C8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877E-9995-4E3D-B5A4-F4D8330E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D3A6-C5EA-4357-AF16-A207EA25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3174-C3AC-41F2-9A47-C3A7F93A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3CEF-1538-4705-B7D9-7EE9DBE7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FF1E-D66F-4449-B8FC-1DCB3D15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B59F-262D-4179-A27D-5044F7F6ADA0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0070-DD95-4419-BB0B-F0411D8208E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43768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ar Martac Drago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5867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mic Sans MS"/>
              </a:rPr>
              <a:t>À partir de 1860, les progrès dans la connaissance des phénomènes électriques et l'intérêt suscité par le télégraphe font resurgir le vieux rêve de l'humanité : se parler à distance. 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mic Sans MS"/>
              </a:rPr>
              <a:t>Lorsque l'Ecossais Alexander Graham Bell a inventé le  premier téléphone en 1876, c'était une révolution dans la communication  humaine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mic Sans MS"/>
              </a:rPr>
              <a:t>Puis, au cours des deux dernières décennies, un nouveau moyen de communication est apparu: le téléphone portable qui a évolué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de façon  spectaculaire</a:t>
            </a:r>
            <a:r>
              <a:rPr b="0" lang="fr-FR" sz="2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6" name="Picture 4" descr="http://www.centraphone.fr/images/telephone_02.jpg"/>
          <p:cNvPicPr/>
          <p:nvPr/>
        </p:nvPicPr>
        <p:blipFill>
          <a:blip r:embed="rId2"/>
          <a:stretch/>
        </p:blipFill>
        <p:spPr>
          <a:xfrm>
            <a:off x="6705720" y="1523880"/>
            <a:ext cx="1682640" cy="1447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http://www.centraphone.fr/images/telephone_03.gif"/>
          <p:cNvPicPr/>
          <p:nvPr/>
        </p:nvPicPr>
        <p:blipFill>
          <a:blip r:embed="rId3"/>
          <a:stretch/>
        </p:blipFill>
        <p:spPr>
          <a:xfrm>
            <a:off x="6781680" y="2971800"/>
            <a:ext cx="1676520" cy="1832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http://www.centraphone.fr/images/telephone_04.gif"/>
          <p:cNvPicPr/>
          <p:nvPr/>
        </p:nvPicPr>
        <p:blipFill>
          <a:blip r:embed="rId4"/>
          <a:stretch/>
        </p:blipFill>
        <p:spPr>
          <a:xfrm>
            <a:off x="6934320" y="4857840"/>
            <a:ext cx="1447560" cy="2000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6840" y="1599840"/>
            <a:ext cx="48769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De la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réation de l'ENIAC (1947 ) le premier ordinateur 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 par P. Eckert et J. Mauchly, l’ordinateur  ont évolué de façon spectaculaire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L'ordinateur, un nom donné en 1955 par J.Perret, est une machine à traiter les données. (l'information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râce à l'évolution de l’ordinateur aujordhui on peut avoir des informations dans tous les domaines tr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è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 rapidement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’est l’internet qui nous facilite l’acc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ès rapide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à l’information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1" name="Picture 4" descr="http://histoire.info.online.fr/images/mm1.jpeg"/>
          <p:cNvPicPr/>
          <p:nvPr/>
        </p:nvPicPr>
        <p:blipFill>
          <a:blip r:embed="rId2"/>
          <a:stretch/>
        </p:blipFill>
        <p:spPr>
          <a:xfrm>
            <a:off x="5943600" y="1295280"/>
            <a:ext cx="2286000" cy="1689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http://www.kevinha.fr/images/Apple/apple-lisa-2.jpg"/>
          <p:cNvPicPr/>
          <p:nvPr/>
        </p:nvPicPr>
        <p:blipFill>
          <a:blip r:embed="rId3"/>
          <a:stretch/>
        </p:blipFill>
        <p:spPr>
          <a:xfrm>
            <a:off x="5943600" y="2971800"/>
            <a:ext cx="2257560" cy="2114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http://images.apple.com/euro/imac/images/overview_new1_20110426.png"/>
          <p:cNvPicPr/>
          <p:nvPr/>
        </p:nvPicPr>
        <p:blipFill>
          <a:blip r:embed="rId4"/>
          <a:stretch/>
        </p:blipFill>
        <p:spPr>
          <a:xfrm>
            <a:off x="6019920" y="5102280"/>
            <a:ext cx="1904760" cy="1755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4114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Le 22 octobre 1879, un bricoleur de génie invente l'éclairage électrique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C’est Thomas Edison qui a inventé l'ampoule électrique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Cette première lampe à incandescence dure pendant quarante heures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6" name="Picture 2" descr="http://www.herodote.net/Images/Edisonlampe.jpg"/>
          <p:cNvPicPr/>
          <p:nvPr/>
        </p:nvPicPr>
        <p:blipFill>
          <a:blip r:embed="rId2"/>
          <a:stretch/>
        </p:blipFill>
        <p:spPr>
          <a:xfrm>
            <a:off x="7696080" y="1676520"/>
            <a:ext cx="1067040" cy="284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le 1" descr=""/>
          <p:cNvPicPr/>
          <p:nvPr/>
        </p:nvPicPr>
        <p:blipFill>
          <a:blip r:embed="rId1"/>
          <a:stretch/>
        </p:blipFill>
        <p:spPr>
          <a:xfrm>
            <a:off x="-2657520" y="-1335240"/>
            <a:ext cx="14757480" cy="8382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6T15:50:35Z</dcterms:created>
  <dc:creator>Dragoss</dc:creator>
  <dc:description/>
  <dc:language>en-US</dc:language>
  <cp:lastModifiedBy>Dragoss</cp:lastModifiedBy>
  <dcterms:modified xsi:type="dcterms:W3CDTF">2012-05-06T20:34:52Z</dcterms:modified>
  <cp:revision>2</cp:revision>
  <dc:subject/>
  <dc:title>Inventions qui ont changé le monde</dc:title>
</cp:coreProperties>
</file>